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DF0-136D-4FF9-A7D8-81DD0AC0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E61-CDC0-435E-B3E7-F8157324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594-C001-4549-A643-8C35F9B4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D4F-D16D-4828-878B-DF367B96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580-698E-4C50-BE17-5045D0ED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CE1-62AD-4130-8F57-A26F27E4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8EC-58D2-45D3-A351-758EF122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898-84EB-49EC-AD6C-BEC4ED99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584-5F2A-48A3-89EF-BF3BF13E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213-54B3-42F3-BA15-52130C3C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7EA-A683-4F40-A27E-B866791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051-DD8B-4D66-A532-AFB2C937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D4A8-381F-46AC-9674-3A2C7B70B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4200" y="0"/>
            <a:ext cx="514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09880" cy="57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َنتَ كُلُ مُبتَغايَ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تَ يا يسو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حياة لي بدون حُبِكَ يسوع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066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04920"/>
            <a:ext cx="3962520" cy="75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663300"/>
                </a:solidFill>
                <a:latin typeface="Times New Roman"/>
                <a:cs typeface="Arabic Transparent"/>
              </a:rPr>
              <a:t>سأُكَرِسُ وأُقَدِمُ 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663300"/>
                </a:solidFill>
                <a:latin typeface="Times New Roman"/>
                <a:cs typeface="Arabic Transparent"/>
              </a:rPr>
              <a:t>كُلَ قلبي كُلَ فِكري   كُلَ ذهني كُلَ عقلي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ُلَ قوَتي وعزم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َكَ يا يسوع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َكَ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0560" cy="723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487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َبْني قوتاً حتى أستطيع    أن أَهِبَ من أَذان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َغفُرَ لِمَنْ عداني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َترُكُ الحُبَ الأناني 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بُدَكَ يسوع،                أعبُدَكَ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2125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67820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28600"/>
            <a:ext cx="426708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قُلتَ إِسألوا       قلــتَ أُطــلبو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 أنا أطلُب  يا ربي طَهرَّني وافدي قلب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كاملاً أَسلُك في دربي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مَعْكَ يا يسوع، مَعْكَ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181480"/>
            <a:ext cx="125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6:52:05Z</dcterms:created>
  <dc:creator>SUZANNE.MD</dc:creator>
  <dc:description/>
  <dc:language>en-US</dc:language>
  <cp:lastModifiedBy>HANI SAFI</cp:lastModifiedBy>
  <dcterms:modified xsi:type="dcterms:W3CDTF">2003-04-30T13:47:06Z</dcterms:modified>
  <cp:revision>2</cp:revision>
  <dc:subject/>
  <dc:title>PowerPoint Presentation</dc:title>
</cp:coreProperties>
</file>